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E6C-A951-4F57-BE5A-E83A4352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F71-FB47-4D05-B0DA-9F35A7AF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6FD-6756-45B6-8F65-462DE25F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17F-7030-4780-92BA-23FE3B4F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1DFC-829B-43F7-8E12-AABF4381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FE64-33FC-4059-A8D4-0DD8A52E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CBA6-735F-4457-8321-4A0D7FB1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B03D-8F4D-47FD-9BE7-30249CA0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3908-C419-46E6-ABF1-CC81E317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DE1D-6626-43F5-8587-4C146337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69EE-0B3B-426B-A6C8-8527E7D2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835-3523-4D54-8852-3D7D8880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433F-AD53-44CE-A74F-54F2799F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BA04-5222-42D7-8ECB-C4466F5F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1010-893D-466C-A660-921DDD2E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9496-127C-41C4-B0B7-E920E88B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444B-6E04-4A95-9F21-A965E2A8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428-A3C5-4DE7-A819-D8DA42E4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B32-8924-4616-BCD5-4CFC4748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458-A642-4B67-B074-E11C7DDF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8DC-0D1B-499F-AA1A-62CA7846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239-101F-43B3-BE68-FBE85DB6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99E-C30E-4784-A963-49DA698B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7FA-0B5A-4AD1-BCE2-199D0D5B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1D15-1D81-4C11-A285-C9D2DA13A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7364-89E6-4383-B580-5AF3561CF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20.xml"/><Relationship Id="rId5" Type="http://schemas.openxmlformats.org/officeDocument/2006/relationships/slide" Target="slide27.xml"/><Relationship Id="rId6" Type="http://schemas.openxmlformats.org/officeDocument/2006/relationships/slide" Target="slide34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21.xml"/><Relationship Id="rId11" Type="http://schemas.openxmlformats.org/officeDocument/2006/relationships/slide" Target="slide28.xml"/><Relationship Id="rId12" Type="http://schemas.openxmlformats.org/officeDocument/2006/relationships/slide" Target="slide35.xml"/><Relationship Id="rId13" Type="http://schemas.openxmlformats.org/officeDocument/2006/relationships/slide" Target="slide41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2.xml"/><Relationship Id="rId18" Type="http://schemas.openxmlformats.org/officeDocument/2006/relationships/slide" Target="slide29.xml"/><Relationship Id="rId19" Type="http://schemas.openxmlformats.org/officeDocument/2006/relationships/slide" Target="slide36.xml"/><Relationship Id="rId20" Type="http://schemas.openxmlformats.org/officeDocument/2006/relationships/slide" Target="slide6.xml"/><Relationship Id="rId21" Type="http://schemas.openxmlformats.org/officeDocument/2006/relationships/slide" Target="slide11.xml"/><Relationship Id="rId22" Type="http://schemas.openxmlformats.org/officeDocument/2006/relationships/slide" Target="slide16.xml"/><Relationship Id="rId23" Type="http://schemas.openxmlformats.org/officeDocument/2006/relationships/slide" Target="slide23.xml"/><Relationship Id="rId24" Type="http://schemas.openxmlformats.org/officeDocument/2006/relationships/slide" Target="slide30.xml"/><Relationship Id="rId25" Type="http://schemas.openxmlformats.org/officeDocument/2006/relationships/slide" Target="slide37.xml"/><Relationship Id="rId26" Type="http://schemas.openxmlformats.org/officeDocument/2006/relationships/slide" Target="slide42.xml"/><Relationship Id="rId27" Type="http://schemas.openxmlformats.org/officeDocument/2006/relationships/slide" Target="slide7.xml"/><Relationship Id="rId28" Type="http://schemas.openxmlformats.org/officeDocument/2006/relationships/slide" Target="slide12.xml"/><Relationship Id="rId29" Type="http://schemas.openxmlformats.org/officeDocument/2006/relationships/slide" Target="slide17.xml"/><Relationship Id="rId30" Type="http://schemas.openxmlformats.org/officeDocument/2006/relationships/slide" Target="slide24.xml"/><Relationship Id="rId31" Type="http://schemas.openxmlformats.org/officeDocument/2006/relationships/slide" Target="slide31.xml"/><Relationship Id="rId32" Type="http://schemas.openxmlformats.org/officeDocument/2006/relationships/slide" Target="slide38.xml"/><Relationship Id="rId33" Type="http://schemas.openxmlformats.org/officeDocument/2006/relationships/slide" Target="slide18.xml"/><Relationship Id="rId34" Type="http://schemas.openxmlformats.org/officeDocument/2006/relationships/slide" Target="slide25.xml"/><Relationship Id="rId35" Type="http://schemas.openxmlformats.org/officeDocument/2006/relationships/slide" Target="slide32.xml"/><Relationship Id="rId36" Type="http://schemas.openxmlformats.org/officeDocument/2006/relationships/slide" Target="slide39.xml"/><Relationship Id="rId37" Type="http://schemas.openxmlformats.org/officeDocument/2006/relationships/slide" Target="slide19.xml"/><Relationship Id="rId38" Type="http://schemas.openxmlformats.org/officeDocument/2006/relationships/slide" Target="slide26.xml"/><Relationship Id="rId39" Type="http://schemas.openxmlformats.org/officeDocument/2006/relationships/slide" Target="slide33.xml"/><Relationship Id="rId40" Type="http://schemas.openxmlformats.org/officeDocument/2006/relationships/slide" Target="slide40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ading &amp; Writing Terms to Kno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tierr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fe is just a bowl of cher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a looked clear as a bell the day we went sail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ittany thinks Bob is a stuffed shir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dice is so skinny she has to run around in the shower to get w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343400" y="5943600"/>
            <a:ext cx="2971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400800" y="5867280"/>
            <a:ext cx="160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419720" y="5791320"/>
            <a:ext cx="4495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400800" y="6019920"/>
            <a:ext cx="2743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 read a story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clus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urning point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olu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troduc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alog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story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he character is thin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nversation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thing that do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quotation marks around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743200" y="6019920"/>
            <a:ext cx="5181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quence of events in a story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shadow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logue between characters in a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ot out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telling of the story including the title, author and type of litera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fer to time, place, mood or atmosphere in a work of literature, we are referring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non-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myth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short s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riter’s attitude toward the su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al message about life or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ial way a writer reveals his ideas.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1143000"/>
            <a:ext cx="89154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1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1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2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#32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1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1" action="ppaction://hlinksldjump"/>
              </a:rPr>
              <a:t>2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2" action="ppaction://hlinksldjump"/>
              </a:rPr>
              <a:t>3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3" action="ppaction://hlinksldjump"/>
              </a:rPr>
              <a:t>#3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4" action="ppaction://hlinksldjump"/>
              </a:rPr>
              <a:t>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5" action="ppaction://hlinksldjump"/>
              </a:rPr>
              <a:t>8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6" action="ppaction://hlinksldjump"/>
              </a:rPr>
              <a:t>13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7" action="ppaction://hlinksldjump"/>
              </a:rPr>
              <a:t>2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8" action="ppaction://hlinksldjump"/>
              </a:rPr>
              <a:t>2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9" action="ppaction://hlinksldjump"/>
              </a:rPr>
              <a:t>#34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0" action="ppaction://hlinksldjump"/>
              </a:rPr>
              <a:t>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1" action="ppaction://hlinksldjump"/>
              </a:rPr>
              <a:t>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2" action="ppaction://hlinksldjump"/>
              </a:rPr>
              <a:t>1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3" action="ppaction://hlinksldjump"/>
              </a:rPr>
              <a:t>2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4" action="ppaction://hlinksldjump"/>
              </a:rPr>
              <a:t>2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5" action="ppaction://hlinksldjump"/>
              </a:rPr>
              <a:t>3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6" action="ppaction://hlinksldjump"/>
              </a:rPr>
              <a:t>#4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7" action="ppaction://hlinksldjump"/>
              </a:rPr>
              <a:t>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8" action="ppaction://hlinksldjump"/>
              </a:rPr>
              <a:t>1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9" action="ppaction://hlinksldjump"/>
              </a:rPr>
              <a:t>1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0" action="ppaction://hlinksldjump"/>
              </a:rPr>
              <a:t>2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1" action="ppaction://hlinksldjump"/>
              </a:rPr>
              <a:t>2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2" action="ppaction://hlinksldjump"/>
              </a:rPr>
              <a:t>#3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3" action="ppaction://hlinksldjump"/>
              </a:rPr>
              <a:t>1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4" action="ppaction://hlinksldjump"/>
              </a:rPr>
              <a:t>2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5" action="ppaction://hlinksldjump"/>
              </a:rPr>
              <a:t>3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6" action="ppaction://hlinksldjump"/>
              </a:rPr>
              <a:t>#3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7" action="ppaction://hlinksldjump"/>
              </a:rPr>
              <a:t>1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8" action="ppaction://hlinksldjump"/>
              </a:rPr>
              <a:t>2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9" action="ppaction://hlinksldjump"/>
              </a:rPr>
              <a:t>3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0" action="ppaction://hlinksldjump"/>
              </a:rPr>
              <a:t>#3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209680" y="30492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iz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elling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character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the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d guy.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s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ong paper that deals with several subje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ways fiction and can be any leng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ally boring paper that you write in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hort non-fiction work that deals with one subject.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629400" y="5867280"/>
            <a:ext cx="213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rt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riting 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writing/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/rev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y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gh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draft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no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ding strate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ing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literature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based on real things that have actuall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n-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riting that deals with real people, events and places without changing any f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something tha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erely something that someone thinks.  I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ually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important sentence in a paragrap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tails/sup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 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e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begin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here, they aren’t necess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middle.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rprise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group of lines that form a unit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arison of two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petition of initial consonant sounds in a line of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luding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la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fir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in the midd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off-topic.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in ide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what a paragraph or passage is about over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me, place or m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logue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blem or struggle for the main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ssage about life and being human.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 simi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 metaph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hyperbo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4 examples of common conflicts found in literatu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lliter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the following words in alphabetical ord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f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e the following plot outlin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12193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5"/>
          <p:cNvSpPr/>
          <p:nvPr/>
        </p:nvSpPr>
        <p:spPr>
          <a:xfrm flipV="1">
            <a:off x="2743200" y="35812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4343400" y="3581280"/>
            <a:ext cx="9144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52578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33520" y="40384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9"/>
          <p:cNvSpPr/>
          <p:nvPr/>
        </p:nvSpPr>
        <p:spPr>
          <a:xfrm flipH="1" flipV="1">
            <a:off x="3352320" y="44956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4495680" y="441936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1"/>
          <p:cNvSpPr/>
          <p:nvPr/>
        </p:nvSpPr>
        <p:spPr>
          <a:xfrm flipH="1">
            <a:off x="6171840" y="37339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58128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3"/>
          <p:cNvSpPr/>
          <p:nvPr/>
        </p:nvSpPr>
        <p:spPr>
          <a:xfrm flipH="1">
            <a:off x="4648320" y="25909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3505320" y="3048120"/>
            <a:ext cx="146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5638680" y="5486400"/>
            <a:ext cx="198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figure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gives animals and ideas human qua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that have something in com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not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down 3 important parts to every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e two short stories that we’ve read this year and state their the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4 references (dictionary, thesaurus, etc.) that we’ve learned about this year and tell what you can find in ea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rprise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group of lines that form a unit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arison of two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petition of initial consonant sounds in a line of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figure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gives animals and ideas human qua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that have something in com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ompares two things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not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compares two thing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ing the words “like” or “as”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an exaggeration is used for emphasis or humor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ory 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bolism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peat consonant sounds at the beginning of two or more words in literature it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o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othy is a rat for telling on S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brother drives like a mania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rty dishes stared at me from the sin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h’s eyes are like twinkling sta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the sound of the word is suggestive of its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nomatopo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m   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compares two thing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ing the words “like” or “as”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248520" y="5715000"/>
            <a:ext cx="251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fe is just a bowl of cherr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ea looked clear as a bell the day we went sa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ttany thinks Bob is a stuffed shir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dice is so skinny she has to run around in the shower to get w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iograph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tory of someone’s life written by someone el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ctitious story.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 read a story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clus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turning point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olu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troduc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alog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story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he character is thin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conversation between charac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thing that do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ve quotation marks around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quence of events in a story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shadowing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logue between characters in a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ot out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retelling of the story including the title, author and type of litera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fer to time, place, mood or atmosphere in a work of literature, we are referring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etting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 extended (long) work of 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non-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myth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short s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riter’s attitude toward the su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universal message about life or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ial way a writer reveals his ideas. 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an exaggeration is used for emphasis or humor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ory 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bolism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553080" y="5486400"/>
            <a:ext cx="1371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erson telling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character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the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d gu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ss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ng paper that deals with several su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fiction and can be any lengt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ally boring paper that you write in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hort non-fiction work that deals with one su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rt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riting 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writing/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/rev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py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gh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draft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no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ding strate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ing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literature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based on real things that have actuall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n-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riting that deals with real people, events and places without changing any f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something tha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lse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erely something that someone thinks.  I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ually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fir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important sentence in a paragrap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tails/sup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 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e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begin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here, they aren’t necess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 the middle.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peat consonant sounds at the beginning of two or more words in literature it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o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5638680"/>
            <a:ext cx="205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luding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e the la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fir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in the midd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off-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at a paragraph or passage is about over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me, place or m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logue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roblem or struggle for the main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ssage about life and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the following words in alphabetical ord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mp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stif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38080" y="26971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down 3 important parts to every paragraph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opic sent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upporting detai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cluding sent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4 references (dictionary, thesaurus, etc.) that we’ve learned about this year and tell what you can find in ea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ctionary – word spellings, part of speech, pronunciations, defin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saurus – words, synonyms, antony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las – maps of the wor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cyclopedia – A comprehensive reference work containing articles on a wide range of subjects or on numerous aspects of a particular field, usually arranged alphabetical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othy is a rat for telling on S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brother drives like a mania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rty dishes stared at me from the sin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h’s eyes are like twinkling stars.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the sound of the word is suggestive of its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m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553080" y="6019920"/>
            <a:ext cx="1905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6:44:54Z</dcterms:created>
  <dc:creator>cgutierrez</dc:creator>
  <dc:description/>
  <dc:language>en-US</dc:language>
  <cp:lastModifiedBy>Mr. Zoubek</cp:lastModifiedBy>
  <dcterms:modified xsi:type="dcterms:W3CDTF">2012-12-12T20:23:35Z</dcterms:modified>
  <cp:revision>19</cp:revision>
  <dc:subject/>
  <dc:title>Reading &amp; Writing Terms to Know</dc:title>
</cp:coreProperties>
</file>